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6.jpeg" ContentType="image/jpeg"/>
  <Override PartName="/ppt/media/image27.jpeg" ContentType="image/jpeg"/>
  <Override PartName="/ppt/media/image7.jpeg" ContentType="image/jpeg"/>
  <Override PartName="/ppt/media/image28.jpeg" ContentType="image/jpeg"/>
  <Override PartName="/ppt/media/image19.jpeg" ContentType="image/jpeg"/>
  <Override PartName="/ppt/media/image6.wmf" ContentType="image/x-wmf"/>
  <Override PartName="/ppt/media/image12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wmf" ContentType="image/x-wmf"/>
  <Override PartName="/ppt/media/image5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media/image24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BBAA-52D1-4C12-BF73-6904C6A7F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C0F9-7CEA-4A87-8C43-89BC0EA9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A018-F5C4-4E6E-B185-EA67E51F6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8CDB-9B96-4141-A7B6-27AD1668F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70656-CFC6-40A8-8520-C39C366D7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E9758-A1C1-4420-9955-3B6E89E1A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BD96C-A610-4C51-8990-4BB0A0BE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193D-8778-4C02-9026-2202EF96F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17ED-31DF-4FEF-9E0A-213A51ED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34441-5469-4864-B1AA-8DC0F0C9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42D3-B520-4E89-A3C5-3DDC07D9F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E52E-10FE-47DA-847F-5AA508C0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D8157-F0F0-4DAE-892D-54BE2712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D37F0-5D2D-4668-8B4F-9486196B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64761-1A4A-4C36-B267-848A4BBF8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C9F6-8EC9-4253-BE1B-58458FC61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995C-E67D-47D4-910A-1D72D10D3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1232-D7F5-4880-89B1-68ED735D6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FA11-1211-481A-AC7F-32546563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0160-2281-4DB5-A259-73E767B0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A622-B037-4D96-8E68-B6C14E03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D2D62-D30D-4F9D-8739-2C904654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184A-E54F-4C1F-A8CA-818CF1F3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2304A-F767-46C3-9D79-CF15E9DDA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769B-D7F9-4C89-B6FA-3E014842D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6FFA-4E81-40F7-B920-D9BB7FDA5A9D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efYkt9lM5GUA87iJzbkF;_ylu=X3oDMTBpZm5udGl1BHBvcwM1BHNlYwNzcgR2dGlkAw--/SIG=1ibs9ab1q/EXP=1289423012/**http:/images.search.yahoo.com/images/view?back=http://images.search.yahoo.com/search/images?p=green+frog&amp;ei=utf-8&amp;w=740&amp;h=500&amp;imgurl=www.naturescapes.net/portfolios/pics/userpics/10173/_MG_4943.jpg&amp;rurl=http://www.naturescapes.net/portfolios/displayimage.php?pos=-18586&amp;size=171KB&amp;name=Green+Frog+-+Mac...&amp;p=green+frog&amp;oid=0d6d3d7357ec2c8d05fe3030c91571c0&amp;fr2=&amp;no=5&amp;tt=78300&amp;sigr=1224kdruc&amp;sigi=12074juat&amp;sigb=122j73m7j&amp;.crumb=fW2hhSjImWS" TargetMode="External"/><Relationship Id="rId2" Type="http://schemas.openxmlformats.org/officeDocument/2006/relationships/image" Target="../media/image25.jpeg"/><Relationship Id="rId3" Type="http://schemas.openxmlformats.org/officeDocument/2006/relationships/hyperlink" Target="http://rds.yahoo.com/_ylt=A0WTefgtt9lMQzMAnFeJzbkF;_ylu=X3oDMTBpc2ozM2gzBHBvcwM0BHNlYwNzcgR2dGlkAw--/SIG=1glttsg9s/EXP=1289423021/**http:/images.search.yahoo.com/images/view?back=http://images.search.yahoo.com/search/images?p=snow&amp;ei=utf-8&amp;w=800&amp;h=600&amp;imgurl=www.bluechillies.com/graphics/screens/3D_Snow_Dance-20229.jpg&amp;rurl=http://www.bluechillies.com/screenshot/45660.html&amp;size=90KB&amp;name=3D+Snow+Dance+1....&amp;p=snow&amp;oid=8b92d7303ca0ab92416afdd7084ac275&amp;fr2=&amp;no=4&amp;tt=759000&amp;sigr=11hrmpds2&amp;sigi=11t5qq8c4&amp;sigb=11s79ggf3&amp;.crumb=fW2hhSjImWS" TargetMode="External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efhZt9lMJzAAnwqJzbkF;_ylu=X3oDMTBpY2Y5NXNiBHBvcwM2BHNlYwNzcgR2dGlkAw--/SIG=1ic9mbt5j/EXP=1289423065/**http:/images.search.yahoo.com/images/view?back=http://images.search.yahoo.com/search/images?p=brown+bear&amp;ei=utf-8&amp;w=2592&amp;h=1944&amp;imgurl=upload.wikimedia.org/wikipedia/commons/6/60/Darica_Brown_Bear_00963.jpg&amp;rurl=http://commons.wikimedia.org/wiki/File:Darica_Brown_Bear_00963.jpg&amp;size=1MB&amp;name=...+Darica+Brown...&amp;p=brown+bear&amp;oid=9e402d6f0e0c545357f3f12f8a42facd&amp;fr2=&amp;no=6&amp;tt=95600&amp;sigr=1222omae0&amp;sigi=127tnspb5&amp;sigb=122vc25ou&amp;.crumb=fW2hhSjImWS" TargetMode="External"/><Relationship Id="rId2" Type="http://schemas.openxmlformats.org/officeDocument/2006/relationships/image" Target="../media/image27.jpeg"/><Relationship Id="rId3" Type="http://schemas.openxmlformats.org/officeDocument/2006/relationships/hyperlink" Target="http://rds.yahoo.com/_ylt=A0WTefRmt9lM_ygAusWJzbkF;_ylu=X3oDMTBqZDFlYmxzBHBvcwMxNgRzZWMDc3IEdnRpZAM-/SIG=1gfijdfth/EXP=1289423078/**http:/images.search.yahoo.com/images/view?back=http://images.search.yahoo.com/search/images?p=green+frog&amp;ei=utf-8&amp;w=719&amp;h=450&amp;imgurl=www.cromwellvalleypark.org/images/Green_Frog.jpg&amp;rurl=http://www.cromwellvalleypark.org/pics/Green_Frog.html&amp;size=269KB&amp;name=Green+Frog&amp;p=green+frog&amp;oid=338ab02dc8eaa60236a3c5e79dcb1eb9&amp;fr2=&amp;no=16&amp;tt=78300&amp;sigr=11mv90p56&amp;sigi=11g3t6ar6&amp;sigb=122j73m7j&amp;.crumb=fW2hhSjImWS" TargetMode="External"/><Relationship Id="rId4" Type="http://schemas.openxmlformats.org/officeDocument/2006/relationships/image" Target="../media/image28.jpeg"/><Relationship Id="rId5" Type="http://schemas.openxmlformats.org/officeDocument/2006/relationships/hyperlink" Target="http://rds.yahoo.com/_ylt=A0WTefh8t9lM0zIAsFyJzbkF;_ylu=X3oDMTBpc2ozM2gzBHBvcwM0BHNlYwNzcgR2dGlkAw--/SIG=1iogmsm66/EXP=1289423100/**http:/images.search.yahoo.com/images/view?back=http://images.search.yahoo.com/search/images?p=groundhog&amp;ei=utf-8&amp;w=550&amp;h=369&amp;imgurl=fifthgradeconnections.wikispaces.com/file/view/image.jpg/32783635/image.jpg&amp;rurl=https://fifthgradeconnections.wikispaces.com/GROUNDHOG+DAY+PROJECT+2008&amp;size=43KB&amp;name=http://www.cdli....&amp;p=groundhog&amp;oid=4e3250eb8e29eb3dfcfa5e7aebe81ff3&amp;fr2=&amp;no=4&amp;tt=54900&amp;sigr=127ssugfh&amp;sigi=12bvitja3&amp;sigb=121o8seav&amp;.crumb=fW2hhSjImWS" TargetMode="External"/><Relationship Id="rId6" Type="http://schemas.openxmlformats.org/officeDocument/2006/relationships/image" Target="../media/image29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efiWt9lMWy4AoI6JzbkF;_ylu=X3oDMTBpZTByOGFiBHBvcwMyBHNlYwNzcgR2dGlkAw--/SIG=1gfii6hea/EXP=1289423126/**http:/images.search.yahoo.com/images/view?back=http://images.search.yahoo.com/search/images?p=geese&amp;ei=utf-8&amp;w=800&amp;h=463&amp;imgurl=www.calliebowdish.com/Birds/CanadaGeeseCOPR111905_2228.jpg&amp;rurl=http://www.calliebowdish.com/birdscopr2005.htm&amp;size=52KB&amp;name=Geese+11/23/05+-...&amp;p=geese&amp;oid=4b0187c59c0ee556071e0eb7f31739ea&amp;fr2=&amp;no=2&amp;tt=110000&amp;sigr=11es3uj4g&amp;sigi=11qbo7rfb&amp;sigb=11tfboji5&amp;.crumb=fW2hhSjImWS" TargetMode="External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efewt9lMwwQAumSJzbkF;_ylu=X3oDMTBqMjRpazg1BHBvcwMxMARzZWMDc3IEdnRpZAM-/SIG=1g9p3ktt3/EXP=1289423152/**http:/images.search.yahoo.com/images/view?back=http://images.search.yahoo.com/search/images?p=squirrel&amp;ei=utf-8&amp;w=458&amp;h=546&amp;imgurl=mgonline.com/media/Images/s/squirrel02.jpg&amp;rurl=http://mgonline.com/articles/squirrel.aspx&amp;size=133KB&amp;name=Some+Advice+on+S...&amp;p=squirrel&amp;oid=3e96f887103a9e7eff040a4abcd76513&amp;fr2=&amp;no=10&amp;tt=109000&amp;sigr=11a44b2fu&amp;sigi=11a95lqil&amp;sigb=1202bebtc&amp;.crumb=fW2hhSjImWS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rds.yahoo.com/_ylt=A0PDoS63tNlMgCgAK2GJzbkF;_ylu=X3oDMTBqaTFoaGxvBHBvcwMxNwRzZWMDc3IEdnRpZAM-/SIG=1hupj3bku/EXP=1289422391/**http:/images.search.yahoo.com/images/view?back=http://images.search.yahoo.com/search/images?p=eagle&amp;ei=UTF-8&amp;fr=yfp-t-701&amp;w=470&amp;h=324&amp;imgurl=www.treehugger.com/bald-eagle-beheaded-repository.jpg&amp;rurl=http://www.treehugger.com/files/2009/09/national-eagle-repository-morgue.php&amp;size=30KB&amp;name=Beheaded+Bald+Ea...&amp;p=eagle&amp;oid=68d077a47b3543cafe8a80f2cd67e5c6&amp;fr2=&amp;no=17&amp;tt=278000&amp;sigr=12c6dvh83&amp;sigi=11l7234n2&amp;sigb=12adpu223&amp;.crumb=fW2hhSjImWS" TargetMode="External"/><Relationship Id="rId3" Type="http://schemas.openxmlformats.org/officeDocument/2006/relationships/image" Target="../media/image8.jpeg"/><Relationship Id="rId4" Type="http://schemas.openxmlformats.org/officeDocument/2006/relationships/hyperlink" Target="http://rds.yahoo.com/_ylt=A0PDoS4htdlM4xcAB.KjzbkF/SIG=12u8ttne5/EXP=1289422497/**http:/animal.discovery.com/guides/wild-birds/gallery/great_horned_owl.jpg" TargetMode="External"/><Relationship Id="rId5" Type="http://schemas.openxmlformats.org/officeDocument/2006/relationships/image" Target="../media/image9.jpeg"/><Relationship Id="rId6" Type="http://schemas.openxmlformats.org/officeDocument/2006/relationships/hyperlink" Target="http://rds.yahoo.com/_ylt=A0PDoS1otdlMt1oA1sqJzbkF;_ylu=X3oDMTBqaWRlZWhnBHBvcwMxOQRzZWMDc3IEdnRpZAM-/SIG=1h6v2hqvf/EXP=1289422568/**http:/images.search.yahoo.com/images/view?back=http://images.search.yahoo.com/search/images?p=hawk&amp;w=353&amp;h=459&amp;imgurl=therosin.com/wp-content/blogs.dir/90/files/2008/04/red-tailed_hawk_lg2.jpg&amp;rurl=http://oldworld.foroactivo.net/bosques-y-montes-f3/bosque-frondoso-t3.htm&amp;size=25KB&amp;name=Hawk&amp;p=hawk&amp;oid=c5e6bfbfededcbd45a64d62aab5e2e93&amp;fr2=&amp;no=19&amp;tt=1680000&amp;sigr=1292a9r7c&amp;sigi=12avo5p2s&amp;sigb=11jqmfnde&amp;.crumb=fW2hhSjImWS" TargetMode="External"/><Relationship Id="rId7" Type="http://schemas.openxmlformats.org/officeDocument/2006/relationships/image" Target="../media/image10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rds.yahoo.com/_ylt=A0PDoX.otdlM4yEA7zWJzbkF;_ylu=X3oDMTBqMjRpazg1BHBvcwMxMARzZWMDc3IEdnRpZAM-/SIG=1gmn85s4k/EXP=1289422632/**http:/images.search.yahoo.com/images/view?back=http://images.search.yahoo.com/search/images?p=squirrel&amp;js=1&amp;ei=utf-8&amp;w=458&amp;h=546&amp;imgurl=mgonline.com/media/Images/s/squirrel02.jpg&amp;rurl=http://mgonline.com/articles/squirrel.aspx&amp;size=133KB&amp;name=Some+Advice+on+S...&amp;p=squirrel&amp;oid=3e96f887103a9e7eff040a4abcd76513&amp;fr2=&amp;no=10&amp;tt=109000&amp;sigr=11a44b2fu&amp;sigi=11a95lqil&amp;sigb=125hhbbtg&amp;.crumb=fW2hhSjImWS" TargetMode="External"/><Relationship Id="rId3" Type="http://schemas.openxmlformats.org/officeDocument/2006/relationships/image" Target="../media/image12.jpeg"/><Relationship Id="rId4" Type="http://schemas.openxmlformats.org/officeDocument/2006/relationships/hyperlink" Target="http://rds.yahoo.com/_ylt=A0WTbx7MtdlM6UgAIaqJzbkF;_ylu=X3oDMTBpdnJhMHUzBHBvcwMxBHNlYwNzcgR2dGlkAw--/SIG=1j752ndtp/EXP=1289422668/**http:/images.search.yahoo.com/images/view?back=http://images.search.yahoo.com/search/images?p=cardinal+bird&amp;ei=utf-8&amp;w=718&amp;h=660&amp;imgurl=www.betterphoto.com/uploads/processed/0806/0802040650001img_9684-.jpg&amp;rurl=http://www.betterphoto.com/gallery/dynoGallDetail.asp?photoID=5589574&amp;catID=24368&amp;size=143KB&amp;name=Cardinal+-+Photo...&amp;p=cardinal+bird&amp;oid=10504bc15735bcbb1009b33ffab80331&amp;fr2=&amp;no=1&amp;tt=38900&amp;sigr=12hmtdtj1&amp;sigi=125jimjf5&amp;sigb=125422f15&amp;.crumb=fW2hhSjImWS" TargetMode="External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hyperlink" Target="http://rds.yahoo.com/_ylt=A0WTb_rWtdlMUm4A836JzbkF;_ylu=X3oDMTBqMjRpazg1BHBvcwMxMARzZWMDc3IEdnRpZAM-/SIG=1foqqdjm9/EXP=1289422678/**http:/images.search.yahoo.com/images/view?back=http://images.search.yahoo.com/search/images?p=deer&amp;ei=utf-8&amp;w=427&amp;h=640&amp;imgurl=www.limestonecoop.com/images/white-tail-deer.ccsp.29.jpg&amp;rurl=http://www.limestonecoop.com/hunters%20night.html&amp;size=77KB&amp;name=Deer&amp;p=deer&amp;oid=207681362ad26ec85f07b775562d0ef9&amp;fr2=&amp;no=10&amp;tt=192000&amp;sigr=11hmjb8m1&amp;sigi=11ooci5vo&amp;sigb=11s3h162t&amp;.crumb=fW2hhSjImWS" TargetMode="External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rds.yahoo.com/_ylt=A0WTb_kPttlMEnEAtoWJzbkF;_ylu=X3oDMTBpc2ozM2gzBHBvcwM0BHNlYwNzcgR2dGlkAw--/SIG=1hlgftmf9/EXP=1289422735/**http:/images.search.yahoo.com/images/view?back=http://images.search.yahoo.com/search/images?p=rabbit&amp;ei=utf-8&amp;w=600&amp;h=400&amp;imgurl=www.naturephoto-cz.eu/photos/others/wild-rabbit-41946.jpg&amp;rurl=http://www.naturephoto-cz.eu/wild-rabbit:oryctolagus-cuniculus-photo-6264.html&amp;size=122KB&amp;name=Rabbit+Photos,+W...&amp;p=rabbit&amp;oid=0f89f608bc33190ef820f791ca94869b&amp;fr2=&amp;no=4&amp;tt=201000&amp;sigr=12ekumshf&amp;sigi=11pngk48d&amp;sigb=11uf57c72&amp;.crumb=fW2hhSjImWS" TargetMode="External"/><Relationship Id="rId3" Type="http://schemas.openxmlformats.org/officeDocument/2006/relationships/image" Target="../media/image17.jpeg"/><Relationship Id="rId4" Type="http://schemas.openxmlformats.org/officeDocument/2006/relationships/hyperlink" Target="http://rds.yahoo.com/_ylt=A0WTb_k9ttlM3XwAhA.JzbkF;_ylu=X3oDMTBpcWpidGtpBHBvcwM4BHNlYwNzcgR2dGlkAw--/SIG=1ibdckj3l/EXP=1289422781/**http:/images.search.yahoo.com/images/view?back=http://images.search.yahoo.com/search/images?p=ruffed+grouse&amp;ei=utf-8&amp;w=800&amp;h=777&amp;imgurl=i1.treknature.com/photos/1775/dscn0016.gelinote_huppe2.jpg&amp;rurl=http://www.treknature.com/gallery/North_America/Canada/photo15255.htm&amp;size=134KB&amp;name=...+hupp&#233;-ruffed...&amp;p=ruffed+grouse&amp;oid=b63bfc1ab77156c8869e3703000a7410&amp;fr2=&amp;no=8&amp;tt=16600&amp;sigr=125d185kv&amp;sigi=11qn4v3s1&amp;sigb=125ua0do5&amp;.crumb=fW2hhSjImWS" TargetMode="External"/><Relationship Id="rId5" Type="http://schemas.openxmlformats.org/officeDocument/2006/relationships/image" Target="../media/image18.jpeg"/><Relationship Id="rId6" Type="http://schemas.openxmlformats.org/officeDocument/2006/relationships/hyperlink" Target="http://rds.yahoo.com/_ylt=A0WTb_pRttlMk3oAzA2JzbkF;_ylu=X3oDMTBpZm5udGl1BHBvcwM1BHNlYwNzcgR2dGlkAw--/SIG=1j3j7ns89/EXP=1289422801/**http:/images.search.yahoo.com/images/view?back=http://images.search.yahoo.com/search/images?p=fox&amp;ei=utf-8&amp;w=366&amp;h=318&amp;imgurl=4.bp.blogspot.com/_nXxfCj5OKWU/SX4SLZ_eLlI/AAAAAAAAA1M/kSsOXryWIcc/s400/fox.jpg&amp;rurl=http://selfcateringcottages.blogspot.com/2009/01/crafty-star-of-fables-living-at-newbarn.html&amp;size=30KB&amp;name=...+we+have+a+re...&amp;p=fox&amp;oid=f905df8f80d4d052ad7825a7f6ba6599&amp;fr2=&amp;no=5&amp;tt=590000&amp;sigr=12teh3e76&amp;sigi=12fkm42or&amp;sigb=11rgj6odt&amp;.crumb=fW2hhSjImWS" TargetMode="External"/><Relationship Id="rId7" Type="http://schemas.openxmlformats.org/officeDocument/2006/relationships/image" Target="../media/image19.jpeg"/><Relationship Id="rId8" Type="http://schemas.openxmlformats.org/officeDocument/2006/relationships/hyperlink" Target="http://rds.yahoo.com/_ylt=A0WTb_tnttlM6TMAmaOJzbkF;_ylu=X3oDMTBpY2Y5NXNiBHBvcwM2BHNlYwNzcgR2dGlkAw--/SIG=1i01h14vo/EXP=1289422823/**http:/images.search.yahoo.com/images/view?back=http://images.search.yahoo.com/search/images?p=dandelion&amp;ei=utf-8&amp;w=370&amp;h=400&amp;imgurl=www.wildmanstevebrill.com/JPEG&apos;S/Plant%20Web%20Images/DandelionSeedhead.jpg&amp;rurl=http://www.wildmanstevebrill.com/Plants.Folder/Dandelion.html&amp;size=44KB&amp;name=COMMON+DANDELION...&amp;p=dandelion&amp;oid=0b17c2e1e7cabc9547d1fa8f68c48106&amp;fr2=&amp;no=6&amp;tt=66900&amp;sigr=11tiem0f5&amp;sigi=12bv0m30t&amp;sigb=12119vabu&amp;.crumb=fW2hhSjImWS" TargetMode="External"/><Relationship Id="rId9" Type="http://schemas.openxmlformats.org/officeDocument/2006/relationships/image" Target="../media/image20.jpeg"/><Relationship Id="rId1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ds.yahoo.com/_ylt=A0WTb_2JttlM0DsADLOJzbkF;_ylu=X3oDMTBqdGFzdWxiBHBvcwMxNQRzZWMDc3IEdnRpZAM-/SIG=1fvhk1jrb/EXP=1289422857/**http:/images.search.yahoo.com/images/view?back=http://images.search.yahoo.com/search/images?p=mushrooms&amp;ei=utf-8&amp;w=300&amp;h=300&amp;imgurl=www.lawncare-business.com/mushrooms.jpg&amp;rurl=http://www.lawncare-business.com/Lawn-Mushrooms.html&amp;size=14KB&amp;name=...+mushrooms+la...&amp;p=mushrooms&amp;oid=89fb9fcc2d300c14f8401fa67c1b4c98&amp;fr2=&amp;no=15&amp;tt=147000&amp;sigr=11kv95478&amp;sigi=117o5hnrr&amp;sigb=121gjn7vj&amp;.crumb=fW2hhSjImWS" TargetMode="External"/><Relationship Id="rId2" Type="http://schemas.openxmlformats.org/officeDocument/2006/relationships/image" Target="../media/image21.jpeg"/><Relationship Id="rId3" Type="http://schemas.openxmlformats.org/officeDocument/2006/relationships/hyperlink" Target="http://rds.yahoo.com/_ylt=A0WTbx.ZttlMvFIAWIeJzbkF;_ylu=X3oDMTBpc2ozM2gzBHBvcwM0BHNlYwNzcgR2dGlkAw--/SIG=1kg6cliai/EXP=1289422873/**http:/images.search.yahoo.com/images/view?back=http://images.search.yahoo.com/search/images?p=earthworms&amp;ei=utf-8&amp;w=640&amp;h=480&amp;imgurl=kentsimmons.uwinnipeg.ca/16cm05/16labman05/lb6pg2_files/earthworm2.bmp&amp;rurl=http://eideard.wordpress.com/2008/11/22/earthworms&#8217;-underground-invasion-threatens-forest-sustainability/&amp;size=900KB&amp;name=Earthworms&#8217;+unde...&amp;p=earthworms&amp;oid=66b6674ac5bf4e0d68d22c78ed59f3dc&amp;fr2=&amp;no=4&amp;tt=24700&amp;sigr=13hv7k8bo&amp;sigi=12679tr41&amp;sigb=122nlhi9c&amp;.crumb=fW2hhSjImWS" TargetMode="External"/><Relationship Id="rId4" Type="http://schemas.openxmlformats.org/officeDocument/2006/relationships/image" Target="../media/image22.jpeg"/><Relationship Id="rId5" Type="http://schemas.openxmlformats.org/officeDocument/2006/relationships/hyperlink" Target="http://rds.yahoo.com/_ylt=A0WTbx_EttlM.nIALKSJzbkF;_ylu=X3oDMTBqbjZwOGU3BHBvcwMzNgRzZWMDc3IEdnRpZAM-/SIG=1hrpokp8f/EXP=1289422916/**http:/images.search.yahoo.com/images/view?back=http://images.search.yahoo.com/search/images?p=spider&amp;b=21&amp;ni=20&amp;ei=utf-8&amp;xargs=0&amp;pstart=1&amp;w=1024&amp;h=768&amp;imgurl=www.jakobvinther.com/insects/spider.jpg&amp;rurl=http://www.jakobvinther.com/insects/spider.html&amp;size=88KB&amp;name=spider.jpg&amp;p=spider&amp;oid=8c1dcb495dd352b9722bf215523868e7&amp;fr2=&amp;no=36&amp;tt=153000&amp;b=21&amp;ni=20&amp;sigr=11f8lhhs5&amp;sigi=117gu2ani&amp;sigb=12qol0f72&amp;.crumb=fW2hhSjImWS" TargetMode="External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32004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cc"/>
                </a:solidFill>
                <a:latin typeface="Arial"/>
              </a:rPr>
              <a:t>Woodland and Forest Habitat</a:t>
            </a:r>
            <a:endParaRPr b="0" lang="en-US" sz="6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5" name="Picture 5" descr="Image of a deciduous forest."/>
          <p:cNvPicPr/>
          <p:nvPr/>
        </p:nvPicPr>
        <p:blipFill>
          <a:blip r:embed="rId1"/>
          <a:stretch/>
        </p:blipFill>
        <p:spPr>
          <a:xfrm>
            <a:off x="2819520" y="4167360"/>
            <a:ext cx="3429000" cy="23857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3276720" y="228600"/>
            <a:ext cx="2971800" cy="18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51920" y="14479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at is the top layer of the forest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Name an animal that lives in the understory.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at type of plant grows in the shrub layer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ere do dandelions and wildflowers grow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at is the bottom layer of the forest?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Review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7010280" y="137160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Canopy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1905120" y="2895480"/>
            <a:ext cx="693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Cardinals, other small birds and squirrel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2057400" y="396252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Small trees, bushes and shrub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2743200" y="49528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Herbal Lay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1600200" y="609588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Forest Floo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1" name="Picture 10" descr="\\source\STORAGE\CODE\MS\PUB\ADMIN\PFiles\MSOffice\Clipart\standard\stddir2\dd01613_.wmf"/>
          <p:cNvPicPr/>
          <p:nvPr/>
        </p:nvPicPr>
        <p:blipFill>
          <a:blip r:embed="rId1"/>
          <a:stretch/>
        </p:blipFill>
        <p:spPr>
          <a:xfrm>
            <a:off x="152280" y="1371600"/>
            <a:ext cx="3049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2000"/>
                            </p:stCondLst>
                            <p:childTnLst>
                              <p:par>
                                <p:cTn id="1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Wintertime in the fores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Verdana"/>
              </a:rPr>
              <a:t>What do the animals do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4" name="Picture 2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505320" y="4792680"/>
            <a:ext cx="2438280" cy="1646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33920" y="2362320"/>
            <a:ext cx="190476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Arial"/>
              </a:rPr>
              <a:t>Hibernate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leep during the wintertime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TextBox 3"/>
          <p:cNvSpPr/>
          <p:nvPr/>
        </p:nvSpPr>
        <p:spPr>
          <a:xfrm>
            <a:off x="1523880" y="43434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What animals hibernate?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69" name="Picture 2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8600" y="838080"/>
            <a:ext cx="2666880" cy="20005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095880" y="1828800"/>
            <a:ext cx="2378160" cy="14860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6" descr="Go to full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657600" y="5105520"/>
            <a:ext cx="1523880" cy="10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Arial"/>
              </a:rPr>
              <a:t>Migrate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29528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Go somewhere that is warme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4" name="TextBox 3"/>
          <p:cNvSpPr/>
          <p:nvPr/>
        </p:nvSpPr>
        <p:spPr>
          <a:xfrm>
            <a:off x="1523880" y="43434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What animals migrate?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5" name="Picture 2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1066680"/>
            <a:ext cx="31798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Arial"/>
              </a:rPr>
              <a:t>Stay 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21932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tay in the forest and do what they normally do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1523880" y="43434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Verdana"/>
              </a:rPr>
              <a:t>What animals stay?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79" name="Picture 2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4343400"/>
            <a:ext cx="1276200" cy="15238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4" descr="Go to fullsize image"/>
          <p:cNvPicPr/>
          <p:nvPr/>
        </p:nvPicPr>
        <p:blipFill>
          <a:blip r:embed="rId3"/>
          <a:stretch/>
        </p:blipFill>
        <p:spPr>
          <a:xfrm>
            <a:off x="7086600" y="365040"/>
            <a:ext cx="1676520" cy="25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Arial"/>
              </a:rPr>
              <a:t>What is a habitat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Verdana"/>
              </a:rPr>
              <a:t>The place where an animal or plant lives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19" name="Picture 4" descr="\\source\STORAGE\CODE\MS\PUB\ADMIN\PFiles\MSOffice\Clipart\standard\stddir1\bd05217_.wmf"/>
          <p:cNvPicPr/>
          <p:nvPr/>
        </p:nvPicPr>
        <p:blipFill>
          <a:blip r:embed="rId1"/>
          <a:stretch/>
        </p:blipFill>
        <p:spPr>
          <a:xfrm>
            <a:off x="5029200" y="3952800"/>
            <a:ext cx="3581280" cy="2905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\\source\STORAGE\CODE\MS\PUB\ADMIN\PFiles\MSOffice\Clipart\WebArt\an00025a.gif"/>
          <p:cNvPicPr/>
          <p:nvPr/>
        </p:nvPicPr>
        <p:blipFill>
          <a:blip r:embed="rId2"/>
          <a:stretch/>
        </p:blipFill>
        <p:spPr>
          <a:xfrm>
            <a:off x="990720" y="4038480"/>
            <a:ext cx="1392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at are in forests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oil, water, plants, animals and tre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land is </a:t>
            </a:r>
            <a:r>
              <a:rPr b="1" lang="en-US" sz="3200" spc="-1" strike="noStrike">
                <a:solidFill>
                  <a:srgbClr val="eaeaea"/>
                </a:solidFill>
                <a:latin typeface="Verdana"/>
              </a:rPr>
              <a:t>covered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by trees, soil, water and full of wildlife.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re are five major layers in a fores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3" name="Picture 4" descr="\\source\STORAGE\CODE\MS\PUB\ADMIN\PFiles\MSOffice\Clipart\standard\stddir4\sy00481_.wmf"/>
          <p:cNvPicPr/>
          <p:nvPr/>
        </p:nvPicPr>
        <p:blipFill>
          <a:blip r:embed="rId1"/>
          <a:stretch/>
        </p:blipFill>
        <p:spPr>
          <a:xfrm>
            <a:off x="2209680" y="5562720"/>
            <a:ext cx="8812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What are the layers of the forest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Canopy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Understory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Shrub Layer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Herbal Layer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Forest Floor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6" name="Picture 4" descr="\\source\STORAGE\CODE\MS\PUB\ADMIN\PFiles\MSOffice\Clipart\standard\stddir2\dd01627_.wmf"/>
          <p:cNvPicPr/>
          <p:nvPr/>
        </p:nvPicPr>
        <p:blipFill>
          <a:blip r:embed="rId1"/>
          <a:stretch/>
        </p:blipFill>
        <p:spPr>
          <a:xfrm>
            <a:off x="5410080" y="1600200"/>
            <a:ext cx="13320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anop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Highest layer in the fores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lled with the largest and oldest trees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Owls, hawks and eagles fly and live here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9" name="Picture 5" descr="forest-canopy"/>
          <p:cNvPicPr/>
          <p:nvPr/>
        </p:nvPicPr>
        <p:blipFill>
          <a:blip r:embed="rId1"/>
          <a:stretch/>
        </p:blipFill>
        <p:spPr>
          <a:xfrm>
            <a:off x="6019920" y="3429000"/>
            <a:ext cx="2892240" cy="2244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38080" y="4572000"/>
            <a:ext cx="1524240" cy="1047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View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514600" y="4114800"/>
            <a:ext cx="1714680" cy="23814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Go to full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724280" y="4495680"/>
            <a:ext cx="117180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Understory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  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Just beneath the Canopy and above the Shrub lay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Middle sized and aged tre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quirrels, cardinals and other bird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5" name="Picture 5" descr="forest-understory"/>
          <p:cNvPicPr/>
          <p:nvPr/>
        </p:nvPicPr>
        <p:blipFill>
          <a:blip r:embed="rId1"/>
          <a:stretch/>
        </p:blipFill>
        <p:spPr>
          <a:xfrm>
            <a:off x="4419720" y="3429000"/>
            <a:ext cx="4495680" cy="3189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676520" y="5029200"/>
            <a:ext cx="1276200" cy="1523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638680" y="1371600"/>
            <a:ext cx="152424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4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hrub Lay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Below the understory and above the herbal layer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hrubs, bushes and small, baby trees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Deer feed and hide here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0" name="Picture 7" descr="\\source\STORAGE\CODE\MS\PUB\ADMIN\PFiles\MSOffice\Clipart\standard\stddir3\na01427_.wmf"/>
          <p:cNvPicPr/>
          <p:nvPr/>
        </p:nvPicPr>
        <p:blipFill>
          <a:blip r:embed="rId1"/>
          <a:stretch/>
        </p:blipFill>
        <p:spPr>
          <a:xfrm>
            <a:off x="5791320" y="4114800"/>
            <a:ext cx="2895480" cy="2514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52680" y="3733920"/>
            <a:ext cx="1924200" cy="29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Herbal Layer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Above the forest floor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Wildflowers and dandelion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Ruffed grouse, rabbits and foxe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44" name="Picture 4" descr="\\source\STORAGE\CODE\MS\PUB\ADMIN\PFiles\MSOffice\Clipart\photohm\j0145356.jpg"/>
          <p:cNvPicPr/>
          <p:nvPr/>
        </p:nvPicPr>
        <p:blipFill>
          <a:blip r:embed="rId1"/>
          <a:stretch/>
        </p:blipFill>
        <p:spPr>
          <a:xfrm>
            <a:off x="4800600" y="3505320"/>
            <a:ext cx="3657600" cy="2414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2" descr="Go to fullsize image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33720" y="5334120"/>
            <a:ext cx="2300040" cy="15238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1" descr="Go to fullsize image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304920" y="3505320"/>
            <a:ext cx="1523880" cy="1476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3" descr="Go to fullsize imag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934320" y="1143000"/>
            <a:ext cx="1523880" cy="1324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5" descr="Go to fullsize imag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2590920" y="3429000"/>
            <a:ext cx="140976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Forest floor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e ground and underground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ree roots, fungi, grass and weed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Earthworms, insects and spiders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51" name="Picture 2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4343400"/>
            <a:ext cx="1981440" cy="19810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Go to fullsize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048120" y="380988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Go to fullsize image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816520" y="4114800"/>
            <a:ext cx="233676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3T23:47:18Z</dcterms:created>
  <dc:creator>Mike</dc:creator>
  <dc:description/>
  <dc:language>en-US</dc:language>
  <cp:lastModifiedBy>User</cp:lastModifiedBy>
  <dcterms:modified xsi:type="dcterms:W3CDTF">2010-11-19T13:34:59Z</dcterms:modified>
  <cp:revision>20</cp:revision>
  <dc:subject/>
  <dc:title>Slide 1</dc:title>
</cp:coreProperties>
</file>